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D7176-5F18-4CB1-B95B-8CA05AE49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54E4A-EED3-4361-88C5-D4356D4B4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41B04-783A-428B-9623-BF15BD52D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34F70-6FF9-44C4-998F-47C99347A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B86D0-8E9E-4337-9C84-1183393704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90449-F670-42BF-BC65-EB1F3566B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37F98-343D-46A0-96AB-BD34B5E70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B2CAE-3A4A-44D1-A077-B41C34483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F47C1-CB51-4336-BD28-D465144A6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81F12-8B69-498A-93E1-BA60D2670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76627-158A-4580-91D8-8AA8B7947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4CCCD-7802-4901-91C5-36FBFB3AF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653B0-3909-4E2B-BB44-C889A546F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BA28C-85A6-428A-8DA5-C21558BDE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C37A2-5A6F-475D-A503-7C7172710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3B339-5A07-4A2F-8C90-87C38F11B4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AC9283-ADE5-4EFF-BDDD-BE05D2A989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C15EE5-3321-49F8-BE88-65E5DA78DF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09EAD0-A40B-4EC1-A40D-A3D2DFBE00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CE0735-E385-4424-87B2-3DC8C64C4E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4963E5-1DBE-4ADF-8EBE-3690FD572F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E652AB-AA7B-4229-831B-A77A48780D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39B5E-92AE-498F-8105-4AEB39646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275289-FA28-4320-B45B-6AAC931E82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6B1F30-0469-4932-8802-749B7EDF0C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64576E-96AE-404F-91B7-8AC91ED6F4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40C750-95B8-40D8-9E0B-C2C7E9F4A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DEE21A-B2B6-4C01-A0D2-A1C09BB7ED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AD173D-989F-4962-ADA4-7A90DF81DA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F9C14F-D9EB-4DF4-837C-E8EEA6C264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ABBCBF-F990-4FC9-9792-CD1E47C361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2985A8-FD36-40CE-A456-115B4AB796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151754-210B-43A1-B16D-021FB89464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7C345-71D2-4FF4-842A-90384ABDC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CB2CF5-31E2-4888-8611-73211E1716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F0FB86-BABA-44BF-9CFA-8E7F300086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E113E3-D0FD-4307-973E-6B26D324E4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700C70-0781-47F3-8536-065C7C128C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CE3AA7-A1FA-4F33-A557-70B757824F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7E0AE-3902-4AEE-B012-715A8FCC72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806A92-5ACE-4F63-925D-0DB49E8FCA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48747F-E6A3-4DD4-9E4F-13D78F6104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5CC67C-03AF-416E-BFA7-DEE69CA76A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1CD937-1B5D-473C-B30E-BFF97E0BA8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20131-35BA-4BA3-BA7B-8E2787C27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699E30-8990-4424-8013-5DA0F3CEDD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BC8A31-6BA4-4E77-AF0A-A611D7A889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F03B2C-A52E-41A8-BAD5-4E623DE4B4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5FD7E2-0A7E-4D4A-8B8F-18E9F5725E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40C556-3740-4D4A-9C67-40C30E795F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B5EF1C-F6DF-41F0-9957-A3A9211198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05316F-5A59-4735-BE45-077192709B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878BFC-5DF6-464A-BD69-93B1F49F17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259943-FB06-48C0-94EE-252569F0FD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F6640D-C964-4B30-BE9A-F1E92E4DA8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DB8FA-AF04-4FB3-9B77-FC8888DD9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54DD8F-B330-48DC-AB05-88761305EA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C0BB47-658C-42C8-8AEA-13437B8FE4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39983C-8DF7-4057-A50C-2D6BA1B6F4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582B3D-D89E-4CA3-91AB-1ED9EE1472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F2E3F6-C5FE-437A-B267-FF0EC1064B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7C1579-385F-4994-B111-480D3F10AA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C0B820-F23E-4B7F-83FA-88427AE74C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0027E2-314B-4763-9B14-51F4C32227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6F123D-50F9-4BCA-A52E-93FA070172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D0C187-DB9F-47D4-9453-871B292716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44188-F147-473D-9D90-D77654E8D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722C6B-B566-4B40-8870-62A818082B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5F9078-BE76-4FCA-A0BF-D268DFE6BC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A34D99-6635-4E90-9ECC-F12604BC08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E95E57-E15D-44C9-B35F-8563E6F4F5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F5A4CC-8265-49DA-A78A-6DFE377AD7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C2CE34-3BBE-487F-833A-7EFDB7A44E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706AA1-C993-48FC-AC2D-4585EEDF93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0FAF52-EED5-4B72-92EE-2BEF5E7364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556BFE-889E-4DA3-B361-2B3E508AFB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D9D00E-0DDE-4541-9717-05D9DBBE29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D083F-C2D8-4193-89B6-1946A0F7D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CA1E80-00FA-4C8C-B9A7-4009573B6E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E93317-5A35-4EDB-8C34-9A558FABF2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498815-51BB-4035-A9F6-CE14575C5E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563C4B-C82A-4D32-B390-1F66178EB6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E02337-D59D-473A-B911-292201D8B7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4B8896-88C0-4E33-B319-F91AB6640F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878705-A5B2-47D3-9DE3-0AE74C69AB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526CD8-964E-40EA-9DBF-2FFCDF114F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BC194E-5793-4AB6-86B4-4F4BFD3773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23BDDA-4F3B-44DE-B085-2538B789D9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137D9-4769-4031-B248-61A434FAF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5EBE27-6B9F-4498-AFAB-232401ECC0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9B92C7-49F5-4D2B-A369-27E5C4E260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DB2C66-A703-447A-8080-EF9232576B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013D6E-FDC7-4320-B821-0D797EE1E4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6FBD6A-9358-4590-AFDD-A38CB07A8F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05AE52-D343-4032-8080-52D617115F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94367B-0B4E-479C-9F10-248AD038553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0F44-2AC2-4C90-A182-90D4E1ED8FC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3CCC-F82D-4753-825A-1FC05CBFAC3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E6C4-1627-4571-9CFF-6E1F56593CAC}"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F2A22-CF2D-4DEA-BF55-F403CE0044E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03B7-2A3D-495F-9B6F-6E69D3CF574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ED60-EE82-4880-BF62-035150B8BD9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854A-4F80-4C8A-8A15-9F5158F76571}"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4539-8DD6-482F-8888-36E7ED5F734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png"/><Relationship Id="rId11" Type="http://schemas.openxmlformats.org/officeDocument/2006/relationships/image" Target="../media/image11.jpeg"/><Relationship Id="rId1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http://z.about.com/d/geography/1/0/9/H/usa3.jpg"/>
          <p:cNvPicPr/>
          <p:nvPr/>
        </p:nvPicPr>
        <p:blipFill>
          <a:blip r:embed="rId1"/>
          <a:stretch/>
        </p:blipFill>
        <p:spPr>
          <a:xfrm>
            <a:off x="0" y="326880"/>
            <a:ext cx="9144000" cy="6531120"/>
          </a:xfrm>
          <a:prstGeom prst="rect">
            <a:avLst/>
          </a:prstGeom>
          <a:ln w="0">
            <a:noFill/>
          </a:ln>
        </p:spPr>
      </p:pic>
      <p:pic>
        <p:nvPicPr>
          <p:cNvPr id="353" name="Picture 4" descr="http://wzus1.ask.com/r?t=a&amp;d=us&amp;s=a&amp;c=p&amp;ti=1&amp;ai=30751&amp;l=dir&amp;o=0&amp;sv=0a5c424d&amp;ip=61681ba7&amp;u=http%3A%2F%2Fwww.bdvideos.co.uk%2Fimages%2Fliberty_bell.jpg"/>
          <p:cNvPicPr/>
          <p:nvPr/>
        </p:nvPicPr>
        <p:blipFill>
          <a:blip r:embed="rId2"/>
          <a:stretch/>
        </p:blipFill>
        <p:spPr>
          <a:xfrm>
            <a:off x="7378560" y="2743200"/>
            <a:ext cx="393840" cy="336600"/>
          </a:xfrm>
          <a:prstGeom prst="rect">
            <a:avLst/>
          </a:prstGeom>
          <a:ln w="0">
            <a:noFill/>
          </a:ln>
        </p:spPr>
      </p:pic>
      <p:pic>
        <p:nvPicPr>
          <p:cNvPr id="354" name="Picture 6" descr="http://wzus1.ask.com/r?t=a&amp;d=us&amp;s=a&amp;c=p&amp;ti=1&amp;ai=30751&amp;l=dir&amp;o=0&amp;sv=0a5c4254&amp;ip=61681ba7&amp;u=http%3A%2F%2Fwww.pbclibrary.org%2Fimages%2Fmt-rushmore.jpg"/>
          <p:cNvPicPr/>
          <p:nvPr/>
        </p:nvPicPr>
        <p:blipFill>
          <a:blip r:embed="rId3"/>
          <a:stretch/>
        </p:blipFill>
        <p:spPr>
          <a:xfrm>
            <a:off x="3505320" y="2133720"/>
            <a:ext cx="814320" cy="533160"/>
          </a:xfrm>
          <a:prstGeom prst="rect">
            <a:avLst/>
          </a:prstGeom>
          <a:ln w="0">
            <a:noFill/>
          </a:ln>
        </p:spPr>
      </p:pic>
      <p:pic>
        <p:nvPicPr>
          <p:cNvPr id="355" name="Picture 8" descr="http://wzus1.ask.com/r?t=a&amp;d=us&amp;s=a&amp;c=p&amp;ti=1&amp;ai=30751&amp;l=dir&amp;o=0&amp;sv=0a5c4250&amp;ip=61681ba7&amp;u=http%3A%2F%2Fwww.abanet.org%2Fpubliced%2Famcon%2Fimages%2Fstatue.jpg"/>
          <p:cNvPicPr/>
          <p:nvPr/>
        </p:nvPicPr>
        <p:blipFill>
          <a:blip r:embed="rId4"/>
          <a:stretch/>
        </p:blipFill>
        <p:spPr>
          <a:xfrm>
            <a:off x="8458200" y="2819520"/>
            <a:ext cx="355680" cy="685800"/>
          </a:xfrm>
          <a:prstGeom prst="rect">
            <a:avLst/>
          </a:prstGeom>
          <a:ln w="0">
            <a:noFill/>
          </a:ln>
        </p:spPr>
      </p:pic>
      <p:pic>
        <p:nvPicPr>
          <p:cNvPr id="356" name="Picture 10" descr="http://wzus1.ask.com/r?t=a&amp;d=us&amp;s=a&amp;c=p&amp;ti=1&amp;ai=30751&amp;l=dir&amp;o=0&amp;sv=0a5c4251&amp;ip=61681ba7&amp;u=http%3A%2F%2Fwww.mustseewashingtondc.com%2FDC-Photos%2Fimages%2Fcapital-washington.jpg"/>
          <p:cNvPicPr/>
          <p:nvPr/>
        </p:nvPicPr>
        <p:blipFill>
          <a:blip r:embed="rId5"/>
          <a:stretch/>
        </p:blipFill>
        <p:spPr>
          <a:xfrm>
            <a:off x="6934320" y="3200400"/>
            <a:ext cx="507960" cy="380880"/>
          </a:xfrm>
          <a:prstGeom prst="rect">
            <a:avLst/>
          </a:prstGeom>
          <a:ln w="0">
            <a:noFill/>
          </a:ln>
        </p:spPr>
      </p:pic>
      <p:pic>
        <p:nvPicPr>
          <p:cNvPr id="357" name="Picture 12" descr="http://wzus1.ask.com/r?t=a&amp;d=us&amp;s=a&amp;c=p&amp;ti=1&amp;ai=30751&amp;l=dir&amp;o=0&amp;sv=0a5c4244&amp;ip=61681ba7&amp;u=http%3A%2F%2Fwww.gpschools.org%2Fci%2Fdepts%2Feng%2Fk5%2Fford%2F1926_Ford%2520Model%2520T%2520Roadster.jpg"/>
          <p:cNvPicPr/>
          <p:nvPr/>
        </p:nvPicPr>
        <p:blipFill>
          <a:blip r:embed="rId6"/>
          <a:stretch/>
        </p:blipFill>
        <p:spPr>
          <a:xfrm>
            <a:off x="6095880" y="2438280"/>
            <a:ext cx="457200" cy="298440"/>
          </a:xfrm>
          <a:prstGeom prst="rect">
            <a:avLst/>
          </a:prstGeom>
          <a:ln w="0">
            <a:noFill/>
          </a:ln>
        </p:spPr>
      </p:pic>
      <p:pic>
        <p:nvPicPr>
          <p:cNvPr id="358" name="Picture 14" descr="http://wzus1.ask.com/r?t=a&amp;d=us&amp;s=a&amp;c=p&amp;ti=1&amp;ai=30751&amp;l=dir&amp;o=0&amp;sv=0a5c4234&amp;ip=61681ba7&amp;u=http%3A%2F%2Fwww.spacetoday.org%2Fimages%2FChina%2FYangShenzhou5Launch.jpg"/>
          <p:cNvPicPr/>
          <p:nvPr/>
        </p:nvPicPr>
        <p:blipFill>
          <a:blip r:embed="rId7"/>
          <a:stretch/>
        </p:blipFill>
        <p:spPr>
          <a:xfrm>
            <a:off x="7238880" y="5410080"/>
            <a:ext cx="322560" cy="457200"/>
          </a:xfrm>
          <a:prstGeom prst="rect">
            <a:avLst/>
          </a:prstGeom>
          <a:ln w="0">
            <a:noFill/>
          </a:ln>
        </p:spPr>
      </p:pic>
      <p:sp>
        <p:nvSpPr>
          <p:cNvPr id="359" name="Freeform 20"/>
          <p:cNvSpPr/>
          <p:nvPr/>
        </p:nvSpPr>
        <p:spPr>
          <a:xfrm>
            <a:off x="2514600" y="5638680"/>
            <a:ext cx="573120" cy="586080"/>
          </a:xfrm>
          <a:custGeom>
            <a:avLst/>
            <a:gdLst/>
            <a:ahLst/>
            <a:rect l="l" t="t" r="r" b="b"/>
            <a:pathLst>
              <a:path w="453795" h="413846">
                <a:moveTo>
                  <a:pt x="144702" y="321972"/>
                </a:moveTo>
                <a:cubicBezTo>
                  <a:pt x="148995" y="343437"/>
                  <a:pt x="138575" y="375506"/>
                  <a:pt x="157581" y="386366"/>
                </a:cubicBezTo>
                <a:cubicBezTo>
                  <a:pt x="180254" y="399322"/>
                  <a:pt x="212182" y="386444"/>
                  <a:pt x="234855" y="373488"/>
                </a:cubicBezTo>
                <a:cubicBezTo>
                  <a:pt x="246642" y="366753"/>
                  <a:pt x="238134" y="344450"/>
                  <a:pt x="247733" y="334851"/>
                </a:cubicBezTo>
                <a:cubicBezTo>
                  <a:pt x="257332" y="325251"/>
                  <a:pt x="273058" y="324634"/>
                  <a:pt x="286370" y="321972"/>
                </a:cubicBezTo>
                <a:cubicBezTo>
                  <a:pt x="316136" y="316019"/>
                  <a:pt x="346471" y="313386"/>
                  <a:pt x="376522" y="309093"/>
                </a:cubicBezTo>
                <a:cubicBezTo>
                  <a:pt x="404622" y="224795"/>
                  <a:pt x="365594" y="307534"/>
                  <a:pt x="428038" y="257578"/>
                </a:cubicBezTo>
                <a:cubicBezTo>
                  <a:pt x="440125" y="247909"/>
                  <a:pt x="445209" y="231820"/>
                  <a:pt x="453795" y="218941"/>
                </a:cubicBezTo>
                <a:cubicBezTo>
                  <a:pt x="426004" y="135567"/>
                  <a:pt x="452666" y="146865"/>
                  <a:pt x="389401" y="128789"/>
                </a:cubicBezTo>
                <a:cubicBezTo>
                  <a:pt x="372382" y="123926"/>
                  <a:pt x="355058" y="120203"/>
                  <a:pt x="337886" y="115910"/>
                </a:cubicBezTo>
                <a:cubicBezTo>
                  <a:pt x="325007" y="107324"/>
                  <a:pt x="308919" y="102239"/>
                  <a:pt x="299249" y="90152"/>
                </a:cubicBezTo>
                <a:cubicBezTo>
                  <a:pt x="257769" y="38303"/>
                  <a:pt x="320930" y="61134"/>
                  <a:pt x="260612" y="12879"/>
                </a:cubicBezTo>
                <a:cubicBezTo>
                  <a:pt x="250012" y="4398"/>
                  <a:pt x="234855" y="4293"/>
                  <a:pt x="221976" y="0"/>
                </a:cubicBezTo>
                <a:cubicBezTo>
                  <a:pt x="218769" y="641"/>
                  <a:pt x="132146" y="15197"/>
                  <a:pt x="118945" y="25758"/>
                </a:cubicBezTo>
                <a:cubicBezTo>
                  <a:pt x="106858" y="35428"/>
                  <a:pt x="100109" y="50551"/>
                  <a:pt x="93187" y="64395"/>
                </a:cubicBezTo>
                <a:cubicBezTo>
                  <a:pt x="87116" y="76537"/>
                  <a:pt x="89907" y="93432"/>
                  <a:pt x="80308" y="103031"/>
                </a:cubicBezTo>
                <a:cubicBezTo>
                  <a:pt x="70708" y="112630"/>
                  <a:pt x="54550" y="111617"/>
                  <a:pt x="41671" y="115910"/>
                </a:cubicBezTo>
                <a:cubicBezTo>
                  <a:pt x="33085" y="128789"/>
                  <a:pt x="18103" y="139224"/>
                  <a:pt x="15914" y="154547"/>
                </a:cubicBezTo>
                <a:cubicBezTo>
                  <a:pt x="14297" y="165864"/>
                  <a:pt x="36839" y="230202"/>
                  <a:pt x="41671" y="244699"/>
                </a:cubicBezTo>
                <a:cubicBezTo>
                  <a:pt x="37378" y="257578"/>
                  <a:pt x="34864" y="271193"/>
                  <a:pt x="28793" y="283335"/>
                </a:cubicBezTo>
                <a:cubicBezTo>
                  <a:pt x="21871" y="297180"/>
                  <a:pt x="0" y="306794"/>
                  <a:pt x="3035" y="321972"/>
                </a:cubicBezTo>
                <a:cubicBezTo>
                  <a:pt x="8562" y="349608"/>
                  <a:pt x="99076" y="359211"/>
                  <a:pt x="106066" y="360609"/>
                </a:cubicBezTo>
                <a:cubicBezTo>
                  <a:pt x="159303" y="413846"/>
                  <a:pt x="123696" y="401277"/>
                  <a:pt x="183339" y="386366"/>
                </a:cubicBezTo>
                <a:cubicBezTo>
                  <a:pt x="187504" y="385325"/>
                  <a:pt x="191925" y="386366"/>
                  <a:pt x="196218" y="386366"/>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60" name="Picture 18" descr="grand1.jpg"/>
          <p:cNvPicPr/>
          <p:nvPr/>
        </p:nvPicPr>
        <p:blipFill>
          <a:blip r:embed="rId8"/>
          <a:stretch/>
        </p:blipFill>
        <p:spPr>
          <a:xfrm>
            <a:off x="1676520" y="3886200"/>
            <a:ext cx="609480" cy="409680"/>
          </a:xfrm>
          <a:prstGeom prst="rect">
            <a:avLst/>
          </a:prstGeom>
          <a:ln w="0">
            <a:noFill/>
          </a:ln>
        </p:spPr>
      </p:pic>
      <p:pic>
        <p:nvPicPr>
          <p:cNvPr id="361" name="Picture 20" descr="lincolnvillage_02-08-09_F1_KSCPAB7.jpg"/>
          <p:cNvPicPr/>
          <p:nvPr/>
        </p:nvPicPr>
        <p:blipFill>
          <a:blip r:embed="rId9"/>
          <a:stretch/>
        </p:blipFill>
        <p:spPr>
          <a:xfrm>
            <a:off x="5486400" y="2819520"/>
            <a:ext cx="530280" cy="344520"/>
          </a:xfrm>
          <a:prstGeom prst="rect">
            <a:avLst/>
          </a:prstGeom>
          <a:ln w="0">
            <a:noFill/>
          </a:ln>
        </p:spPr>
      </p:pic>
      <p:pic>
        <p:nvPicPr>
          <p:cNvPr id="362" name="Picture 15" descr="http://blueroof.files.wordpress.com/2007/03/the-gateway-arch.png"/>
          <p:cNvPicPr/>
          <p:nvPr/>
        </p:nvPicPr>
        <p:blipFill>
          <a:blip r:embed="rId10"/>
          <a:stretch/>
        </p:blipFill>
        <p:spPr>
          <a:xfrm>
            <a:off x="4952880" y="3505320"/>
            <a:ext cx="480960" cy="552240"/>
          </a:xfrm>
          <a:prstGeom prst="rect">
            <a:avLst/>
          </a:prstGeom>
          <a:ln w="0">
            <a:noFill/>
          </a:ln>
        </p:spPr>
      </p:pic>
      <p:sp>
        <p:nvSpPr>
          <p:cNvPr id="363" name="Straight Connector 15"/>
          <p:cNvSpPr/>
          <p:nvPr/>
        </p:nvSpPr>
        <p:spPr>
          <a:xfrm>
            <a:off x="1219320" y="464832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Straight Connector 17"/>
          <p:cNvSpPr/>
          <p:nvPr/>
        </p:nvSpPr>
        <p:spPr>
          <a:xfrm>
            <a:off x="3429000" y="312408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Straight Connector 19"/>
          <p:cNvSpPr/>
          <p:nvPr/>
        </p:nvSpPr>
        <p:spPr>
          <a:xfrm>
            <a:off x="6858000" y="632448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Straight Connector 21"/>
          <p:cNvSpPr/>
          <p:nvPr/>
        </p:nvSpPr>
        <p:spPr>
          <a:xfrm>
            <a:off x="7772400" y="380988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Straight Connector 22"/>
          <p:cNvSpPr/>
          <p:nvPr/>
        </p:nvSpPr>
        <p:spPr>
          <a:xfrm>
            <a:off x="7772400" y="251460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Straight Connector 23"/>
          <p:cNvSpPr/>
          <p:nvPr/>
        </p:nvSpPr>
        <p:spPr>
          <a:xfrm>
            <a:off x="4572000" y="449568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Straight Connector 24"/>
          <p:cNvSpPr/>
          <p:nvPr/>
        </p:nvSpPr>
        <p:spPr>
          <a:xfrm>
            <a:off x="6324480" y="228600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Straight Connector 25"/>
          <p:cNvSpPr/>
          <p:nvPr/>
        </p:nvSpPr>
        <p:spPr>
          <a:xfrm>
            <a:off x="6477120" y="388620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Straight Connector 26"/>
          <p:cNvSpPr/>
          <p:nvPr/>
        </p:nvSpPr>
        <p:spPr>
          <a:xfrm>
            <a:off x="5181480" y="342900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TextBox 28"/>
          <p:cNvSpPr/>
          <p:nvPr/>
        </p:nvSpPr>
        <p:spPr>
          <a:xfrm>
            <a:off x="762120" y="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a:t>
            </a:r>
            <a:r>
              <a:rPr b="0" lang="en-US" sz="2400" spc="-1" strike="noStrike">
                <a:solidFill>
                  <a:srgbClr val="000000"/>
                </a:solidFill>
                <a:latin typeface="Adobe Garamond Pro"/>
              </a:rPr>
              <a:t>Meet Me at the ____”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National Landmark Appointment</a:t>
            </a:r>
            <a:endParaRPr b="0" lang="en-US" sz="2400" spc="-1" strike="noStrike">
              <a:solidFill>
                <a:srgbClr val="000000"/>
              </a:solidFill>
              <a:latin typeface="Arial"/>
            </a:endParaRPr>
          </a:p>
        </p:txBody>
      </p:sp>
      <p:pic>
        <p:nvPicPr>
          <p:cNvPr id="373" name="Picture 28" descr="http://www.kiyochiemi.com/images_texas/alamo.jpg"/>
          <p:cNvPicPr/>
          <p:nvPr/>
        </p:nvPicPr>
        <p:blipFill>
          <a:blip r:embed="rId11"/>
          <a:stretch/>
        </p:blipFill>
        <p:spPr>
          <a:xfrm>
            <a:off x="3429000" y="4572000"/>
            <a:ext cx="838080" cy="571680"/>
          </a:xfrm>
          <a:prstGeom prst="rect">
            <a:avLst/>
          </a:prstGeom>
          <a:ln w="0">
            <a:noFill/>
          </a:ln>
        </p:spPr>
      </p:pic>
      <p:sp>
        <p:nvSpPr>
          <p:cNvPr id="374" name="Straight Connector 27"/>
          <p:cNvSpPr/>
          <p:nvPr/>
        </p:nvSpPr>
        <p:spPr>
          <a:xfrm>
            <a:off x="3200400" y="556272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http://www.traveltalkradio.com/images/rushmore_memorial_06.jpg"/>
          <p:cNvPicPr/>
          <p:nvPr/>
        </p:nvPicPr>
        <p:blipFill>
          <a:blip r:embed="rId1"/>
          <a:stretch/>
        </p:blipFill>
        <p:spPr>
          <a:xfrm>
            <a:off x="304920" y="2286000"/>
            <a:ext cx="3902040" cy="2438280"/>
          </a:xfrm>
          <a:prstGeom prst="rect">
            <a:avLst/>
          </a:prstGeom>
          <a:ln w="0">
            <a:noFill/>
          </a:ln>
        </p:spPr>
      </p:pic>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64653"/>
                </a:solidFill>
                <a:latin typeface="Britannic Bold"/>
              </a:rPr>
              <a:t>Mt. Rushmore</a:t>
            </a:r>
            <a:endParaRPr b="0" lang="en-US" sz="5400" spc="-1" strike="noStrike">
              <a:solidFill>
                <a:srgbClr val="464653"/>
              </a:solidFill>
              <a:latin typeface="Bookman Old Style"/>
            </a:endParaRPr>
          </a:p>
        </p:txBody>
      </p:sp>
      <p:sp>
        <p:nvSpPr>
          <p:cNvPr id="377" name="Rectangle 5"/>
          <p:cNvSpPr/>
          <p:nvPr/>
        </p:nvSpPr>
        <p:spPr>
          <a:xfrm>
            <a:off x="533520" y="5257800"/>
            <a:ext cx="7467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the wind and the rain alone shall wear them away, Mt. Rushmore, will endur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culptor Gutzon Borglum </a:t>
            </a:r>
            <a:br>
              <a:rPr sz="1800"/>
            </a:br>
            <a:endParaRPr b="0" lang="en-US" sz="1800" spc="-1" strike="noStrike">
              <a:solidFill>
                <a:srgbClr val="000000"/>
              </a:solidFill>
              <a:latin typeface="Arial"/>
            </a:endParaRPr>
          </a:p>
        </p:txBody>
      </p:sp>
      <p:sp>
        <p:nvSpPr>
          <p:cNvPr id="378" name="Rectangle 6"/>
          <p:cNvSpPr/>
          <p:nvPr/>
        </p:nvSpPr>
        <p:spPr>
          <a:xfrm>
            <a:off x="4267080" y="1752480"/>
            <a:ext cx="4572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eorge Washington:</a:t>
            </a:r>
            <a:r>
              <a:rPr b="0" lang="en-US" sz="1800" spc="-1" strike="noStrike">
                <a:solidFill>
                  <a:srgbClr val="000000"/>
                </a:solidFill>
                <a:latin typeface="Arial"/>
              </a:rPr>
              <a:t> struggle for independ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omas Jefferson </a:t>
            </a:r>
            <a:r>
              <a:rPr b="0" lang="en-US" sz="1800" spc="-1" strike="noStrike">
                <a:solidFill>
                  <a:srgbClr val="000000"/>
                </a:solidFill>
                <a:latin typeface="Arial"/>
              </a:rPr>
              <a:t>: government by the peo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Abraham Lincoln </a:t>
            </a:r>
            <a:r>
              <a:rPr b="0" lang="en-US" sz="1800" spc="-1" strike="noStrike">
                <a:solidFill>
                  <a:srgbClr val="000000"/>
                </a:solidFill>
                <a:latin typeface="Arial"/>
              </a:rPr>
              <a:t>: equality and the permanent union of the sta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odore Roosevelt: </a:t>
            </a:r>
            <a:r>
              <a:rPr b="0" lang="en-US" sz="1800" spc="-1" strike="noStrike">
                <a:solidFill>
                  <a:srgbClr val="000000"/>
                </a:solidFill>
                <a:latin typeface="Arial"/>
              </a:rPr>
              <a:t>20th century role of the United States in world affai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ACTS</a:t>
            </a:r>
            <a:endParaRPr b="0" lang="en-US" sz="3200" spc="-1" strike="noStrike">
              <a:solidFill>
                <a:srgbClr val="464653"/>
              </a:solidFill>
              <a:latin typeface="Bookman Old Style"/>
            </a:endParaRPr>
          </a:p>
        </p:txBody>
      </p:sp>
      <p:sp>
        <p:nvSpPr>
          <p:cNvPr id="38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ow many years did it take to build (14 yr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ere is it located: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Mountain Heigh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How much did it cost to build</a:t>
            </a:r>
            <a:endParaRPr b="0" lang="en-US" sz="2600" spc="-1" strike="noStrike">
              <a:solidFill>
                <a:srgbClr val="000000"/>
              </a:solidFill>
              <a:latin typeface="Gill Sans MT"/>
            </a:endParaRPr>
          </a:p>
        </p:txBody>
      </p:sp>
      <p:sp>
        <p:nvSpPr>
          <p:cNvPr id="381" name="Rectangle 3"/>
          <p:cNvSpPr/>
          <p:nvPr/>
        </p:nvSpPr>
        <p:spPr>
          <a:xfrm>
            <a:off x="2980800" y="5791320"/>
            <a:ext cx="2974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mtrushmore.n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rand Canyon</a:t>
            </a:r>
            <a:endParaRPr b="0" lang="en-US" sz="3200" spc="-1" strike="noStrike">
              <a:solidFill>
                <a:srgbClr val="464653"/>
              </a:solidFill>
              <a:latin typeface="Bookman Old Style"/>
            </a:endParaRPr>
          </a:p>
        </p:txBody>
      </p:sp>
      <p:pic>
        <p:nvPicPr>
          <p:cNvPr id="383" name="Picture 2" descr="http://www.photoseek.com/99SW-15-02-Grand-Canyon.jpg"/>
          <p:cNvPicPr/>
          <p:nvPr/>
        </p:nvPicPr>
        <p:blipFill>
          <a:blip r:embed="rId1"/>
          <a:stretch/>
        </p:blipFill>
        <p:spPr>
          <a:xfrm>
            <a:off x="228600" y="1828800"/>
            <a:ext cx="4861080" cy="320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acts</a:t>
            </a:r>
            <a:endParaRPr b="0" lang="en-US" sz="3200" spc="-1" strike="noStrike">
              <a:solidFill>
                <a:srgbClr val="464653"/>
              </a:solidFill>
              <a:latin typeface="Bookman Old Style"/>
            </a:endParaRPr>
          </a:p>
        </p:txBody>
      </p:sp>
      <p:sp>
        <p:nvSpPr>
          <p:cNvPr id="385" name="Rectangle 2"/>
          <p:cNvSpPr/>
          <p:nvPr/>
        </p:nvSpPr>
        <p:spPr>
          <a:xfrm>
            <a:off x="380880" y="1905120"/>
            <a:ext cx="83822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s a chasm 277 miles long and up to 18 miles wid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elow Yavapai point is 2,400 feet above sea level, about 4,500 feet below the South Rim and 5,400 feet below the North Rim for an average depth of about one mil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Took 3-6 million years to form; erosion continues to alter its contours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ncludes approximately 70 species of mammals, 250 species of birds,   25 types of reptiles and five species of amphibians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Was formed by the Colorado River, which flows west through the canyon and averages about 300 feet width, 100 feet in depth and flows at an average speed of four miles per h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ateway Arch</a:t>
            </a:r>
            <a:endParaRPr b="0" lang="en-US" sz="3200" spc="-1" strike="noStrike">
              <a:solidFill>
                <a:srgbClr val="464653"/>
              </a:solidFill>
              <a:latin typeface="Bookman Old Style"/>
            </a:endParaRPr>
          </a:p>
        </p:txBody>
      </p:sp>
      <p:pic>
        <p:nvPicPr>
          <p:cNvPr id="387" name="Picture 2" descr="http://www.microsiervos.com/images/gateway-arch-saint-louis.jpg"/>
          <p:cNvPicPr/>
          <p:nvPr/>
        </p:nvPicPr>
        <p:blipFill>
          <a:blip r:embed="rId1"/>
          <a:stretch/>
        </p:blipFill>
        <p:spPr>
          <a:xfrm>
            <a:off x="228600" y="2362320"/>
            <a:ext cx="380988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ACTS – Gateway Arch</a:t>
            </a:r>
            <a:endParaRPr b="0" lang="en-US" sz="3200" spc="-1" strike="noStrike">
              <a:solidFill>
                <a:srgbClr val="464653"/>
              </a:solidFill>
              <a:latin typeface="Bookman Old Style"/>
            </a:endParaRPr>
          </a:p>
        </p:txBody>
      </p:sp>
      <p:graphicFrame>
        <p:nvGraphicFramePr>
          <p:cNvPr id="389" name=""/>
          <p:cNvGraphicFramePr/>
          <p:nvPr/>
        </p:nvGraphicFramePr>
        <p:xfrm>
          <a:off x="228600" y="1676520"/>
          <a:ext cx="8534520" cy="4064040"/>
        </p:xfrm>
        <a:graphic>
          <a:graphicData uri="http://schemas.openxmlformats.org/drawingml/2006/table">
            <a:tbl>
              <a:tblPr/>
              <a:tblGrid>
                <a:gridCol w="4267080"/>
                <a:gridCol w="4267440"/>
              </a:tblGrid>
              <a:tr h="19980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Height</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630 feet</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Width at the base</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630 feet</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Weight</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43,000 tons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Exterior composition</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tainless steel</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736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When it was buil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February 12, 1963 -October 28, 1965</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Depth of the foundation</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60 feet</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Architect</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Eero Saarinen</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tructural Engineer</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Fred Severud</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608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Location</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In the Jefferson National Expansion Memorial, 11 North Fourth Street, St. Louis, Missouri, on the banks of the Mississippi River</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7312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Time it takes to travel in the tram to the observation deck at the top of the arch</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About 4 minutes (it travels at a rate of 240 feet per minute)</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068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Number of steps in each leg of the arch (the stairs are used only for maintenance and emergencies)</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76</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90" name="Rectangle 1"/>
          <p:cNvSpPr/>
          <p:nvPr/>
        </p:nvSpPr>
        <p:spPr>
          <a:xfrm>
            <a:off x="1944720" y="-236880"/>
            <a:ext cx="5254200" cy="474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cts and Figures about the St. Louis Gateway Arch</a:t>
            </a:r>
            <a:r>
              <a:rPr b="0" lang="en-US" sz="1600" spc="-1" strike="noStrike">
                <a:solidFill>
                  <a:srgbClr val="ff0000"/>
                </a:solidFill>
                <a:latin typeface="Arial"/>
              </a:rPr>
              <a:t>:</a:t>
            </a:r>
            <a:br>
              <a:rPr sz="9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member the Alamo!" </a:t>
            </a:r>
            <a:endParaRPr b="0" lang="en-US" sz="3200" spc="-1" strike="noStrike">
              <a:solidFill>
                <a:srgbClr val="464653"/>
              </a:solidFill>
              <a:latin typeface="Bookman Old Style"/>
            </a:endParaRPr>
          </a:p>
        </p:txBody>
      </p:sp>
      <p:pic>
        <p:nvPicPr>
          <p:cNvPr id="392" name="Picture 28" descr="http://www.kiyochiemi.com/images_texas/alamo.jpg"/>
          <p:cNvPicPr/>
          <p:nvPr/>
        </p:nvPicPr>
        <p:blipFill>
          <a:blip r:embed="rId1"/>
          <a:stretch/>
        </p:blipFill>
        <p:spPr>
          <a:xfrm>
            <a:off x="533520" y="2057400"/>
            <a:ext cx="3297240" cy="2247840"/>
          </a:xfrm>
          <a:prstGeom prst="rect">
            <a:avLst/>
          </a:prstGeom>
          <a:ln w="0">
            <a:noFill/>
          </a:ln>
        </p:spPr>
      </p:pic>
      <p:sp>
        <p:nvSpPr>
          <p:cNvPr id="393" name="Rectangle 4"/>
          <p:cNvSpPr/>
          <p:nvPr/>
        </p:nvSpPr>
        <p:spPr>
          <a:xfrm>
            <a:off x="5257800" y="1600200"/>
            <a:ext cx="32004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amo was the scene of a pivotal battle in the fight for the independence of Texas from Mexico. In the early 1800s, Texas belonged to Mexico. During the Texas war for independence from Mexico, Spanish troops occupied the abandoned building, now used as a fortress, calling it Ala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5T01:12:29Z</dcterms:created>
  <dc:creator>hmhendri</dc:creator>
  <dc:description/>
  <dc:language>en-US</dc:language>
  <cp:lastModifiedBy>hmhendri</cp:lastModifiedBy>
  <dcterms:modified xsi:type="dcterms:W3CDTF">2010-08-11T16:45:38Z</dcterms:modified>
  <cp:revision>4</cp:revision>
  <dc:subject/>
  <dc:title>Slide 1</dc:title>
</cp:coreProperties>
</file>